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C92-ADF4-4BE3-8546-36EA12F2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6D1-6853-47F7-933C-DA49636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3D2-B283-4EB0-BE1C-85B7450F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DE6-E34B-435F-B886-94AD44C8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5BF-43BF-4F1D-A047-7C451272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F7E-5614-4E77-BC5C-0F04FFC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DF6-9417-4247-8A08-5953F21C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9B6-C2C0-46A7-AF70-8FCF2383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07C-440D-4F06-8428-CE96EA18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1B8-FEB2-43B4-AFAE-4DDDB555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400-AE34-47D1-817A-87CB039B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308-92F0-4428-99EA-489839A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2D59-82DE-41FF-92C4-E9A2F6D8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Knowledge Management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With What You’ve Already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ach of the documents you created in this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re happy with what you’ve written, identify some key words that reflect th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edit your blog. Create a new entry, and, one at a time, copy and paste each document as a new blog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key terms and key words for each post, and save your postings as your complete the edit of that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5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ime when you learned a valuable new lesson or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n important day in your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you learned new information and sorted it 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ome things that you wish you would have known years 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85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t Importan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information and knowledge learned b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the organization’s past in order to ensure ou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participating in the organization’s Knowledge Management progr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36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your contribution to the organization’s future by documenting the pa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8:41:44Z</dcterms:created>
  <dc:creator>Anne Brooker-Grogan</dc:creator>
  <dc:description/>
  <dc:language>en-US</dc:language>
  <cp:lastModifiedBy>Anne Brooker-Grogan</cp:lastModifiedBy>
  <dcterms:modified xsi:type="dcterms:W3CDTF">2010-02-26T18:46:03Z</dcterms:modified>
  <cp:revision>1</cp:revision>
  <dc:subject/>
  <dc:title>Final Assessment</dc:title>
</cp:coreProperties>
</file>